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ED6A-741E-45A5-8C58-5C71CE35F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3E25-A3AC-47CA-8383-6A7D5B859B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1FA-D9B6-49DB-9F34-2C25C681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7E1-9F08-45CD-85D9-EE1B1E0D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F2D-0680-4028-A311-BF3EAE4E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87A-C1D3-4446-8AF3-74A5BA5D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05D4-3D0A-4D81-B818-14A1E22B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60B1-F061-4BCC-9781-49D9101C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0B43-9E78-42F1-B11D-2FBEFD6C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C050-811C-4DE7-9555-4196E897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8A16-E706-4898-9808-19B02ADB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62C1-737B-45D9-8B8B-D613FC82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26FA-F1C5-4824-98A4-718B207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EA9-06EA-4759-A63E-B29331C1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9D02-8288-473A-8DE6-5726BD1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C2CC-6EE2-4CA3-BC78-7D4DF255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8FFA-07F7-48A9-B9B4-B2089FC9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FC76-7E13-4776-9968-1AF46696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1A6-0466-4EDB-91F5-9C2C7A6A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0EE-A51D-494D-859A-73C2B809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A17-4094-4F38-8735-B91098E6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979-4D9F-4778-AF2B-41F69E60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465-7CA1-4041-BFFA-0B9C745B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EA8-12EF-4F38-A368-05E1FC02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D46-7579-413D-BC27-C71D9A8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8F3-37B6-4BA0-AA68-9E946793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701-FCB8-43F9-8E80-E97495FE4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A443-F7C8-4EF3-82CA-83DF95E6A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49080" y="4059000"/>
            <a:ext cx="607068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Hannah Caldwell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1066680" y="1143000"/>
            <a:ext cx="5715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John Glenn, Jr.</a:t>
            </a:r>
            <a:endParaRPr b="1" lang="en-US" sz="24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Picture 6" descr="http://www.audiologyonline.com/management/uploads/interviews/john_glenn3.gif"/>
          <p:cNvPicPr/>
          <p:nvPr/>
        </p:nvPicPr>
        <p:blipFill>
          <a:blip r:embed="rId3"/>
          <a:stretch/>
        </p:blipFill>
        <p:spPr>
          <a:xfrm>
            <a:off x="152280" y="3124080"/>
            <a:ext cx="270036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380880" y="236232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ew from Los Angeles to New York City in 3 hours, 23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to orbit the earth 3 times in less than 5 ho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omplished in 134 earth orbits, traveling 3.6 million miles 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13 hours 23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ine day 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ew over Africa, Indian Ocean, Australia, Pacific Ocean, West Coast of the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nited States, over Florida, back in less than 2 ho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craft splashed in Pacific Ocean 800 miles from Bermu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nt to space with 6 other 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1447920" y="76212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Fligh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0" name="Picture 7" descr="http://grin.hq.nasa.gov/IMAGES/LARGE/GPN-2000-000686.jpg"/>
          <p:cNvPicPr/>
          <p:nvPr/>
        </p:nvPicPr>
        <p:blipFill>
          <a:blip r:embed="rId3"/>
          <a:stretch/>
        </p:blipFill>
        <p:spPr>
          <a:xfrm>
            <a:off x="6934320" y="4038480"/>
            <a:ext cx="1981080" cy="2475000"/>
          </a:xfrm>
          <a:prstGeom prst="rect">
            <a:avLst/>
          </a:prstGeom>
          <a:ln w="0">
            <a:noFill/>
          </a:ln>
        </p:spPr>
      </p:pic>
      <p:pic>
        <p:nvPicPr>
          <p:cNvPr id="101" name="MSj04416580000[1].wav" descr=""/>
          <p:cNvPicPr/>
          <p:nvPr/>
        </p:nvPicPr>
        <p:blipFill>
          <a:blip r:embed="rId4"/>
          <a:stretch/>
        </p:blipFill>
        <p:spPr>
          <a:xfrm>
            <a:off x="129528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8016 L 3.33333E-006 -0.5131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71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 rot="207600">
            <a:off x="1619640" y="3233880"/>
            <a:ext cx="62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t down three MI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planes got hit 11 times in World War II and Korean W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ps pilot in World War I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 rot="1200">
            <a:off x="2438280" y="8377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ar Flight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7"/>
          <p:cNvSpPr/>
          <p:nvPr/>
        </p:nvSpPr>
        <p:spPr>
          <a:xfrm rot="21407400">
            <a:off x="1148760" y="312372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ic flight lasted 4 hours 55 minutes launch to la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w 59 missions supporting the troo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WordArt 1028"/>
          <p:cNvSpPr txBox="1"/>
          <p:nvPr/>
        </p:nvSpPr>
        <p:spPr>
          <a:xfrm>
            <a:off x="1676520" y="609480"/>
            <a:ext cx="45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Historic Flights</a:t>
            </a:r>
            <a:endParaRPr b="0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2057400" y="2895480"/>
            <a:ext cx="4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679400" y="2895480"/>
            <a:ext cx="41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est to venture into space at age 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space shuttle Discovery cr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p named Friendship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ne-foot by seven-foot caps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WordArt 5"/>
          <p:cNvSpPr txBox="1"/>
          <p:nvPr/>
        </p:nvSpPr>
        <p:spPr>
          <a:xfrm rot="21327600">
            <a:off x="990360" y="76212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1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re Facts About John Glenn, J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1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1833120" y="3429000"/>
            <a:ext cx="501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dier, pilot, astronaut, business man, se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idential candidate 19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52480" y="1143000"/>
            <a:ext cx="480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hen not an astronaut/Jobs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Picture 6" descr="http://serebra.typepad.com/.a/6a010535cd7148970c0120a599865f970b-800wi"/>
          <p:cNvPicPr/>
          <p:nvPr/>
        </p:nvPicPr>
        <p:blipFill>
          <a:blip r:embed="rId1"/>
          <a:stretch/>
        </p:blipFill>
        <p:spPr>
          <a:xfrm>
            <a:off x="5226120" y="3825720"/>
            <a:ext cx="39178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057400" y="685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bli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42840" y="1143000"/>
            <a:ext cx="894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: http://library. thinkquest.org/4034/glenn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:  http://www.infoplease.com/spot/glenn1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: www.johnglennhome.org/john_glenn.s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: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www.starchild.gsfc.nasa.gov/docs/StarChild/whos_who_lev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tronau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:  Michael Goodma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: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yclopedia :World 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: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:  22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5:53:10Z</dcterms:created>
  <dc:creator>CALDWHAN000</dc:creator>
  <dc:description/>
  <dc:language>en-US</dc:language>
  <cp:lastModifiedBy>CALDWHAN000</cp:lastModifiedBy>
  <dcterms:modified xsi:type="dcterms:W3CDTF">2010-02-05T16:27:39Z</dcterms:modified>
  <cp:revision>18</cp:revision>
  <dc:subject/>
  <dc:title>John Glenn, Jr.</dc:title>
</cp:coreProperties>
</file>